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B09-4212-44CE-9525-BF6D41D9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B46-71FC-4C7A-824D-5B258B5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680-AAD1-4987-8BD3-9F6FE29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307-A098-424F-B627-7A0C43DD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C40-8858-45B2-BE72-6C96C279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058-0727-4EC8-85D5-DAB5921C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B35-DCAB-45A3-B020-6BD0A666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DBF-2B0C-463D-A898-0E2F368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B6B-84D8-4DC0-BF2E-A409B71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C0D-2F20-4FC9-8A33-4BC8A53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319-C213-4662-8FE9-77809EC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2EA-F4F5-4606-BD9D-76D3901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996-BDED-43CD-A92F-978C74B896A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olska w Traktacie Wersal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71640" y="1052640"/>
            <a:ext cx="7018200" cy="548784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7:12:17Z</dcterms:created>
  <dc:creator>IB</dc:creator>
  <dc:description/>
  <dc:language>en-US</dc:language>
  <cp:lastModifiedBy>rena</cp:lastModifiedBy>
  <dcterms:modified xsi:type="dcterms:W3CDTF">2013-03-05T18:00:07Z</dcterms:modified>
  <cp:revision>2</cp:revision>
  <dc:subject/>
  <dc:title>Slajd 1</dc:title>
</cp:coreProperties>
</file>